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916-8435-4EB7-A515-A629CD3E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80F-DBB6-481B-AB29-0C8FFB52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AEB-BF22-42CA-9E7A-07B7F69A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423-7D31-48B2-AF1F-A4B5CCB4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550-7FCF-4FD6-8BCD-30C6E3EF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2D1-EACC-4148-855C-502CDF94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CFD-A436-49EB-9919-CEA44B5E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0A9-ACA1-486A-BE7F-FEF90EC4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E3E-C46B-4C12-BDE9-B26525F6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655-6C90-4C3B-A27C-3DD0EAA4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10B-517C-44E9-A763-43C1521C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F4A-2B80-4B8F-9363-EBE01E3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B185-D208-402A-9177-05D46AE66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ongan lo que significan los modismos en context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estar enfermo Pablo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guardó cama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tres días la semana pasada.  Su hermano Paco, sin embargo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, goza d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ena salud y nunca está enferm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 gusta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proba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i comida antes de ponerle sal. Siempre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me pruebo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 abrigo antes de comprar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los profesores nunca les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sobr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iempo para preparar las clases.  El lunes comemos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las sobra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 las comidas del doming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tes de comer yo mismo,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le doy de com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mi perro,  Pero nunca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me lo agrade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os pantalones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te aprieta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cho. İAdemás, su color repugnante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me da asc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egos de palabras: ¿cuál es la diferenci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os cuartos tiene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rincone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las calles tienen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esquina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n el cubo hay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agujero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redondos por donde salen chorros de agua.  En la paredes ruinosas de un catedral hay muchas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griet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  En la tierra y en los campos de golf hay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hoyo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redond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etiquet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 esta chaqueta de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etiquet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ice que es del Corte Inglé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l cuarto tiene cuatro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parede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pero la casa puede tener varios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muro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exteriores.  Alrededor de la casa a veces se encuentra una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 cerca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o muy alt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 parte el pan en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rebanad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el jamón en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lonj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otras carnes en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tajad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hay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rodaj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 fiambres, y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raja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 queso, pescado y fruta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suelo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l baño del segundo </a:t>
            </a:r>
            <a:r>
              <a:rPr b="1" i="1" lang="en-US" sz="2300" spc="-1" strike="noStrike">
                <a:solidFill>
                  <a:srgbClr val="000000"/>
                </a:solidFill>
                <a:latin typeface="Calibri"/>
              </a:rPr>
              <a:t>piso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está mojad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smos / Juegos de palab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uardó c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oza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 prueb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ob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as sob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e doy de c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 lo agrade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e aprie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 da as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inc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squ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guj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ri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y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tiqu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tiqu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are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Mu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La cer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eban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Lon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aj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oda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a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ue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i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7:20:50Z</dcterms:created>
  <dc:creator>Jefferson County Public Schools</dc:creator>
  <dc:description/>
  <dc:language>en-US</dc:language>
  <cp:lastModifiedBy>Jefferson County Public Schools</cp:lastModifiedBy>
  <dcterms:modified xsi:type="dcterms:W3CDTF">2010-08-31T19:59:02Z</dcterms:modified>
  <cp:revision>9</cp:revision>
  <dc:subject/>
  <dc:title>Supongan lo que significan los modismos en contexto…</dc:title>
</cp:coreProperties>
</file>